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7.gif" ContentType="image/gif"/>
  <Override PartName="/ppt/media/image12.jpeg" ContentType="image/jpeg"/>
  <Override PartName="/ppt/media/image6.png" ContentType="image/png"/>
  <Override PartName="/ppt/media/image5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0CE-DEE5-420D-8E87-3EA1850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C83-B6EE-41C7-9B7A-9BFF3A5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FA5-5DAE-473A-A195-3BC72CA0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71E-EC86-4B1C-8A03-667B0538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C4D-2720-4DB4-9BA3-AEB762A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2FA-D185-4CB5-8109-7CEA193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F53-D2FC-46A7-8CD8-4093B68E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AD3-3FA4-40B7-847A-A4BF25E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637-0793-497D-8150-36F3BDAE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322-CE70-4FEB-8B9D-559533D6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80D-E1A4-4E06-A888-F9CF92F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744-9051-46D2-B39C-C233AB0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17C-0D65-4C72-A2C7-2B4A1EDDF9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втомобиль. Дорога. Пешеход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i-main-pic" descr="Картинка 88 из 2345"/>
          <p:cNvPicPr/>
          <p:nvPr/>
        </p:nvPicPr>
        <p:blipFill>
          <a:blip r:embed="rId1"/>
          <a:stretch/>
        </p:blipFill>
        <p:spPr>
          <a:xfrm>
            <a:off x="1474920" y="1773360"/>
            <a:ext cx="6048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28800" y="260280"/>
            <a:ext cx="25635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ДТ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954600" cy="2808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3708360" y="268200"/>
            <a:ext cx="4248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8" descr="Безымянный"/>
          <p:cNvPicPr/>
          <p:nvPr/>
        </p:nvPicPr>
        <p:blipFill>
          <a:blip r:embed="rId1"/>
          <a:stretch/>
        </p:blipFill>
        <p:spPr>
          <a:xfrm>
            <a:off x="-714240" y="0"/>
            <a:ext cx="1021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dotbordr"/>
          <p:cNvPicPr/>
          <p:nvPr/>
        </p:nvPicPr>
        <p:blipFill>
          <a:blip r:embed="rId1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PASTE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1567800" y="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дорожных зна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шеходный перех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71388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шеходная зо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2288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рет движения на велосипед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570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ети на дорог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028"/>
          <p:cNvPicPr/>
          <p:nvPr/>
        </p:nvPicPr>
        <p:blipFill>
          <a:blip r:embed="rId1"/>
          <a:stretch/>
        </p:blipFill>
        <p:spPr>
          <a:xfrm>
            <a:off x="2627280" y="2133720"/>
            <a:ext cx="3643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берите правильные пунк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365840" y="1600200"/>
            <a:ext cx="58438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85840" y="6072120"/>
            <a:ext cx="22860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6629400" y="60199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087920" y="1600200"/>
            <a:ext cx="5843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на велосипеде с неисправным рул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066680" y="21337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тротуа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066680" y="266688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, не держась за ру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066680" y="32004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перевозить пассажиров старше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066680" y="3733920"/>
            <a:ext cx="6400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ается ездить по дороге без световых при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066680" y="426708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без звукового сигн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1066680" y="480060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здить на велосипеде разрешено лицам с 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1066680" y="5334120"/>
            <a:ext cx="6400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ещается ездить парами по ширине дор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омните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42880" y="1285560"/>
            <a:ext cx="45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fac9"/>
                </a:solidFill>
                <a:latin typeface="Calibri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перебегайте улиц и дорог перед близко  движущимся                             транспортом – это очень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пасно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ля жизни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8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и одно даже самое важное дело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не  стоит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3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ашей жизни</a:t>
            </a:r>
            <a:r>
              <a:rPr b="1" lang="ru-RU" sz="3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!!!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613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мятка при переходе дорог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5000760" y="2286000"/>
            <a:ext cx="371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Умей не только видеть , но и слышать улиц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Обращай внимание на сигналы автомобиля (указатели поворота, заднего хода, тормоза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Контролируй свои движения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ворот головы для осмотра дорог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остановку для пропуска автомоби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85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рожная Академ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Aharoni"/>
              </a:rPr>
              <a:t>«Дисциплина на улице – залог безопасности»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10" descr="пдд2"/>
          <p:cNvPicPr/>
          <p:nvPr/>
        </p:nvPicPr>
        <p:blipFill>
          <a:blip r:embed="rId2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APPYBOY"/>
          <p:cNvPicPr/>
          <p:nvPr/>
        </p:nvPicPr>
        <p:blipFill>
          <a:blip r:embed="rId3"/>
          <a:stretch/>
        </p:blipFill>
        <p:spPr>
          <a:xfrm>
            <a:off x="2928960" y="3357720"/>
            <a:ext cx="1152360" cy="18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MIS105"/>
          <p:cNvPicPr/>
          <p:nvPr/>
        </p:nvPicPr>
        <p:blipFill>
          <a:blip r:embed="rId4"/>
          <a:stretch/>
        </p:blipFill>
        <p:spPr>
          <a:xfrm>
            <a:off x="4857840" y="3000240"/>
            <a:ext cx="16081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18"/>
          <p:cNvSpPr/>
          <p:nvPr/>
        </p:nvSpPr>
        <p:spPr>
          <a:xfrm>
            <a:off x="4572000" y="1219320"/>
            <a:ext cx="0" cy="563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1676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ревни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04920" y="28195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распространенн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28600" y="4419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быстрый вид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380880" y="55627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ый мелкомасштабный вид транспорт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25780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Д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105520" y="1752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ВТОМОБИ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525780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ДУШ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510552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ЕЛЕЗНОДОРО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3" descr="bar67"/>
          <p:cNvPicPr/>
          <p:nvPr/>
        </p:nvPicPr>
        <p:blipFill>
          <a:blip r:embed="rId1"/>
          <a:stretch/>
        </p:blipFill>
        <p:spPr>
          <a:xfrm rot="5400000">
            <a:off x="1793160" y="3921120"/>
            <a:ext cx="5638680" cy="23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534520" cy="8380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ставьте в нужном порядке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1783 L 0.01667 0.20232 E">
                                      <p:cBhvr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778 E">
                                      <p:cBhvr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3.33333E-006 -0.39329 E">
                                      <p:cBhvr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 E">
                                      <p:cBhvr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2357280" y="457200"/>
            <a:ext cx="43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28760" y="3143160"/>
            <a:ext cx="2357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етр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428760" y="61657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179280" y="549360"/>
            <a:ext cx="2739960" cy="251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03640" y="549360"/>
            <a:ext cx="2611440" cy="25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132000" y="3933720"/>
            <a:ext cx="2664000" cy="22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156360" y="549360"/>
            <a:ext cx="2608200" cy="2525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7"/>
          <p:cNvSpPr/>
          <p:nvPr/>
        </p:nvSpPr>
        <p:spPr>
          <a:xfrm>
            <a:off x="6296040" y="314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18" descr="карета"/>
          <p:cNvPicPr/>
          <p:nvPr/>
        </p:nvPicPr>
        <p:blipFill>
          <a:blip r:embed="rId5"/>
          <a:stretch/>
        </p:blipFill>
        <p:spPr>
          <a:xfrm>
            <a:off x="250920" y="3933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1"/>
          <p:cNvSpPr/>
          <p:nvPr/>
        </p:nvSpPr>
        <p:spPr>
          <a:xfrm>
            <a:off x="3295800" y="6165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6012000" y="3933720"/>
            <a:ext cx="28321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5"/>
          <p:cNvSpPr/>
          <p:nvPr/>
        </p:nvSpPr>
        <p:spPr>
          <a:xfrm>
            <a:off x="5581800" y="61657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одзаголовок 2"/>
          <p:cNvSpPr/>
          <p:nvPr/>
        </p:nvSpPr>
        <p:spPr>
          <a:xfrm>
            <a:off x="971640" y="3143160"/>
            <a:ext cx="72723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вая  пово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2848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Ежегодно в мире в результате ДТП погибают и получают ранени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 млн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человек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о данным Всемирного банка глобальные экономические потери составляют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00 млрд.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долларов в год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семирная организация здравоохранения  свидетельствует, что на долю ДТП приходится более </a:t>
            </a: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0% смертельных исходов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от всех несчастных случаев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ХХ веке автомобиль стал причиной смерти около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      </a:t>
            </a: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30 млн. человек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В России потери, связанные  с ДТП в несколько раз превышают ущерб от  железнодорожных катастроф, пожаров и других видов несчастных случаев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сштаб ДТП угрожает национальной безопасности.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efac9"/>
                </a:solidFill>
                <a:latin typeface="Calibri"/>
              </a:rPr>
              <a:t>            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Из доклада рабочей группы  Президиума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                              </a:t>
            </a:r>
            <a:r>
              <a:rPr b="1" lang="ru-RU" sz="1900" spc="-1" strike="noStrike">
                <a:solidFill>
                  <a:srgbClr val="fefac9"/>
                </a:solidFill>
                <a:latin typeface="Calibri"/>
              </a:rPr>
              <a:t>Государственного совета Российской  федерации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гноз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 данным Всемирной организации здравоохранения , если срочно не предпринять мер , то в ближайшие годы уровень смертности на дорогах  мир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вырастет на 60%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И этим Земля будет обязана странам с низким и средним уровнем доходов населения, где из-за плохих дорог , старых автомобилей и отсутствия водительской культуры рост смертности может достичь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83%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атист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 итогам прошлого 2008 года в     России произошла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23 851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авария 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в которых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погибло 1116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и ран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24 707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школьников и дошколят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На пешеходов составлено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560 тыс.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протоколов за нарушение ПДД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Получается, что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каждый третий</a:t>
            </a:r>
            <a:r>
              <a:rPr b="1" lang="ru-RU" sz="3200" spc="-1" strike="noStrike">
                <a:solidFill>
                  <a:srgbClr val="fefac9"/>
                </a:solidFill>
                <a:latin typeface="Calibri"/>
              </a:rPr>
              <a:t> россиянин, включая младенцев и стариков, нарушил ПД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ичины ДТП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еход через проезжую часть вне установленных для перехода мест:  35-4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ожиданный выход из-за движущихся или стоящих транспортных средств или других препятствий, мешающих обзору: 25-3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подчинение сигналам светофора: 10-15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гры на проезжей части и ходьба по ней при наличии тротуара: -5-1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7:29Z</dcterms:created>
  <dc:creator>Света</dc:creator>
  <dc:description/>
  <dc:language>en-US</dc:language>
  <cp:lastModifiedBy>21</cp:lastModifiedBy>
  <dcterms:modified xsi:type="dcterms:W3CDTF">2013-04-08T12:14:39Z</dcterms:modified>
  <cp:revision>19</cp:revision>
  <dc:subject/>
  <dc:title>Слайд 1</dc:title>
</cp:coreProperties>
</file>